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4EF0-147F-4EEA-99ED-BA9391470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A115-3F7C-4EFD-8789-96D78540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111-E6E7-4C92-AC6A-0DC99C84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96B-A775-4947-83BF-3615E973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E0A-A2FF-44FE-93DF-3FF3B78B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9F1-71F6-45FB-BB3F-1404D725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103-8963-4A18-8313-1046843D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C825-7DEF-4979-9EFC-12A310B2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278-CD80-4067-9C41-F8D15469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8C48-0552-47C4-B179-9126271E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098-B85E-4E6E-B9E3-E4180B5D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ADB-60F8-478E-BE1C-02BC929A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F72-F2E0-4935-942D-FD254187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303C-0E99-4E21-9DC8-452BFAA57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de.ca.gov/ta/tg/sr/css05rtq.asp" TargetMode="External"/><Relationship Id="rId2" Type="http://schemas.openxmlformats.org/officeDocument/2006/relationships/hyperlink" Target="http://www.cde.ca.gov/ta/tg/sr/css05rtq.asp" TargetMode="External"/><Relationship Id="rId3" Type="http://schemas.openxmlformats.org/officeDocument/2006/relationships/hyperlink" Target="http://www.cde.ca.gov/ta/tg/sr/css05rtq.asp" TargetMode="External"/><Relationship Id="rId4" Type="http://schemas.openxmlformats.org/officeDocument/2006/relationships/hyperlink" Target="http://www.cde.ca.gov/ta/tg/sr/css05rtq.asp" TargetMode="External"/><Relationship Id="rId5" Type="http://schemas.openxmlformats.org/officeDocument/2006/relationships/hyperlink" Target="http://www.cde.ca.gov/ta/tg/sr/css05rtq.asp" TargetMode="External"/><Relationship Id="rId6" Type="http://schemas.openxmlformats.org/officeDocument/2006/relationships/hyperlink" Target="http://www.cde.ca.gov/ta/tg/sr/css05rtq.asp" TargetMode="External"/><Relationship Id="rId7" Type="http://schemas.openxmlformats.org/officeDocument/2006/relationships/hyperlink" Target="http://www.cde.ca.gov/ta/tg/sr/css05rtq.asp" TargetMode="External"/><Relationship Id="rId8" Type="http://schemas.openxmlformats.org/officeDocument/2006/relationships/hyperlink" Target="http://www.cde.ca.gov/ta/tg/sr/css05rtq.asp" TargetMode="External"/><Relationship Id="rId9" Type="http://schemas.openxmlformats.org/officeDocument/2006/relationships/hyperlink" Target="http://www.cde.ca.gov/ta/tg/sr/css05rtq.asp" TargetMode="External"/><Relationship Id="rId10" Type="http://schemas.openxmlformats.org/officeDocument/2006/relationships/hyperlink" Target="http://www.cde.ca.gov/ta/tg/sr/css05rtq.asp" TargetMode="External"/><Relationship Id="rId11" Type="http://schemas.openxmlformats.org/officeDocument/2006/relationships/hyperlink" Target="http://www.cde.ca.gov/ta/tg/sr/css05rtq.asp" TargetMode="External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make Napolitano Spaghetti Sa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 Time: 1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k Time: 30 minutes to 2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s: 4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aghetti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gred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5 large clove garlic, mi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cups fresh tomatoes (peeled &amp; seeded)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28 ounce cans of San Marzano tomat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cup of fresh basil ch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tablespoon fresh par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ch of fresh 1 teaspoon sea salt, preferably gray 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ch baking soda or sugar, if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ento_San_Marzano_peeled-Tomatoes_TO-89008" descr=""/>
          <p:cNvPicPr/>
          <p:nvPr/>
        </p:nvPicPr>
        <p:blipFill>
          <a:blip r:embed="rId1"/>
          <a:stretch/>
        </p:blipFill>
        <p:spPr>
          <a:xfrm>
            <a:off x="4789440" y="1981080"/>
            <a:ext cx="3527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the olive oil in a large pot over moderate he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parsley, basil and garlic and cook briefly to release their frag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tomatoes, basil and 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e the tomatoes with an immersion blender or mash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mer briskly until reduced to a sauce like consistenc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opy%20(2)%20of%20Italy_color" descr=""/>
          <p:cNvPicPr/>
          <p:nvPr/>
        </p:nvPicPr>
        <p:blipFill>
          <a:blip r:embed="rId1"/>
          <a:stretch/>
        </p:blipFill>
        <p:spPr>
          <a:xfrm>
            <a:off x="685800" y="2101680"/>
            <a:ext cx="380988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ong do I simmer the sau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ming will depend on the ripeness and meatiness of your tomatoes and the size of your pot. If the sauce thickens too much before the flavors have developed, add a little water and continue cook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simmer 2 hours or 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auce" descr=""/>
          <p:cNvPicPr/>
          <p:nvPr/>
        </p:nvPicPr>
        <p:blipFill>
          <a:blip r:embed="rId1"/>
          <a:stretch/>
        </p:blipFill>
        <p:spPr>
          <a:xfrm>
            <a:off x="4648320" y="2766960"/>
            <a:ext cx="38098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mmmmmm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te and adjust the seasoning. If the sauce needs a touch of sweetness, add the sugar and cook for 5 more minu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il 1 pound of pasta 8-9 minutes. Ladle it with the sa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kle with a bit of  chopped basil and ser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251px-Eating-Spaghetti-1-28-10--5" descr=""/>
          <p:cNvPicPr/>
          <p:nvPr/>
        </p:nvPicPr>
        <p:blipFill>
          <a:blip r:embed="rId1"/>
          <a:stretch/>
        </p:blipFill>
        <p:spPr>
          <a:xfrm>
            <a:off x="5180040" y="1981080"/>
            <a:ext cx="2746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 TESTING INF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r proctor will be Ms. Koivisto in Room 10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ore sample test questions, vis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cde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.ca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4"/>
              </a:rPr>
              <a:t>gov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/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ta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7"/>
              </a:rPr>
              <a:t>/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8"/>
              </a:rPr>
              <a:t>tg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9"/>
              </a:rPr>
              <a:t>/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0"/>
              </a:rPr>
              <a:t>sr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1"/>
              </a:rPr>
              <a:t>/css05rtq.as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opy%20of%20good-student-2a-751595" descr=""/>
          <p:cNvPicPr/>
          <p:nvPr/>
        </p:nvPicPr>
        <p:blipFill>
          <a:blip r:embed="rId12"/>
          <a:stretch/>
        </p:blipFill>
        <p:spPr>
          <a:xfrm>
            <a:off x="5265720" y="1981080"/>
            <a:ext cx="2573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3:15:49Z</dcterms:created>
  <dc:creator>ladychamperz</dc:creator>
  <dc:description/>
  <dc:language>en-US</dc:language>
  <cp:lastModifiedBy>ladychamperz</cp:lastModifiedBy>
  <dcterms:modified xsi:type="dcterms:W3CDTF">2011-04-22T14:23:36Z</dcterms:modified>
  <cp:revision>4</cp:revision>
  <dc:subject/>
  <dc:title>How to make Napolitano Spaghetti Sauce</dc:title>
</cp:coreProperties>
</file>